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wmf" ContentType="image/x-wmf"/>
  <Override PartName="/ppt/media/image12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DBA5-B31B-469F-B9A9-3E2D63E04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4AFD-EDD5-4FF2-B1FD-9F0BDE0AC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1159-F269-4A7E-B6B0-F5A5AFF02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77A7-2F2C-44E5-9F36-4C8E984E5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BB2E-91E7-4436-9FEE-7BA9367B2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03B5-9EBD-4DF1-83D8-FBA4A3286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E155-76DB-46C5-812D-09BE30D88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7F50-5933-49EB-8E9E-F6BC62115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F606-B90B-452F-A8DE-EBD679C56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0D16-AAC7-40CF-8A0D-30D07A238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7EB4-793F-43BC-BC35-B431F7EE8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F370-D27B-4A4C-BFAD-57BD34464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7696-E6F2-4616-88EF-0CC8487F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A8CB-2B73-4107-96C9-50F4D07A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055-3B3C-4997-8DB6-2195F8BF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516-565C-45CE-9188-F96793DF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A39-E531-4CDF-A94D-F1CD04FF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CD3-19C0-4C14-8D6F-821EDF90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1D9-3C6D-41DD-9CF7-A00D971C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FD0-AB07-4FE9-B3B9-E4B7BEE1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194-4E65-4FB3-BF51-C963F7C5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324E-DD62-423F-B0F7-0737870A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DC07-7346-4DEC-9A8C-F2360967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F8C-8A5B-47DA-A041-AF661C64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5174-951C-4AC9-B277-14F5A574E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w a Bigger Bub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dra Patt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900432595[1]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MP900402284[1]"/>
          <p:cNvPicPr/>
          <p:nvPr/>
        </p:nvPicPr>
        <p:blipFill>
          <a:blip r:embed="rId2"/>
          <a:stretch/>
        </p:blipFill>
        <p:spPr>
          <a:xfrm>
            <a:off x="304920" y="380880"/>
            <a:ext cx="1741320" cy="217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CURRENT USER\AppData\Local\Microsoft\Windows\Temporary Internet Files\Content.IE5\LXJT8XGM\MC900232654[1].wmf"/>
          <p:cNvPicPr/>
          <p:nvPr/>
        </p:nvPicPr>
        <p:blipFill>
          <a:blip r:embed="rId3"/>
          <a:stretch/>
        </p:blipFill>
        <p:spPr>
          <a:xfrm>
            <a:off x="326880" y="4572000"/>
            <a:ext cx="1244880" cy="1857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CURRENT USER\AppData\Local\Microsoft\Windows\Temporary Internet Files\Content.IE5\M27XF07U\MP900289682[1].jpg"/>
          <p:cNvPicPr/>
          <p:nvPr/>
        </p:nvPicPr>
        <p:blipFill>
          <a:blip r:embed="rId4"/>
          <a:stretch/>
        </p:blipFill>
        <p:spPr>
          <a:xfrm>
            <a:off x="7010280" y="4419720"/>
            <a:ext cx="153684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flabbergasted by the conclusion.  Orbit blew the biggest bubble.  A gum that is meant for chewing and not blowing.I had predicted that Double Bubble would have the largest diameter.  It ended up being the small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P900427652[1]"/>
          <p:cNvPicPr/>
          <p:nvPr/>
        </p:nvPicPr>
        <p:blipFill>
          <a:blip r:embed="rId1"/>
          <a:stretch/>
        </p:blipFill>
        <p:spPr>
          <a:xfrm>
            <a:off x="6172200" y="411480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65D91ACC"/>
          <p:cNvPicPr/>
          <p:nvPr/>
        </p:nvPicPr>
        <p:blipFill>
          <a:blip r:embed="rId1"/>
          <a:stretch/>
        </p:blipFill>
        <p:spPr>
          <a:xfrm>
            <a:off x="0" y="1371600"/>
            <a:ext cx="4572000" cy="2819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A41060F5"/>
          <p:cNvPicPr/>
          <p:nvPr/>
        </p:nvPicPr>
        <p:blipFill>
          <a:blip r:embed="rId2"/>
          <a:stretch/>
        </p:blipFill>
        <p:spPr>
          <a:xfrm>
            <a:off x="0" y="4191120"/>
            <a:ext cx="4572000" cy="266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29E11E24"/>
          <p:cNvPicPr/>
          <p:nvPr/>
        </p:nvPicPr>
        <p:blipFill>
          <a:blip r:embed="rId3"/>
          <a:stretch/>
        </p:blipFill>
        <p:spPr>
          <a:xfrm>
            <a:off x="4572000" y="4191120"/>
            <a:ext cx="4572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C133DDE"/>
          <p:cNvPicPr/>
          <p:nvPr/>
        </p:nvPicPr>
        <p:blipFill>
          <a:blip r:embed="rId4"/>
          <a:stretch/>
        </p:blipFill>
        <p:spPr>
          <a:xfrm>
            <a:off x="4572000" y="1371600"/>
            <a:ext cx="4572000" cy="2819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0" y="152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of my particip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rands of gum produce the largest bubbles in dia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C900153936[1]"/>
          <p:cNvPicPr/>
          <p:nvPr/>
        </p:nvPicPr>
        <p:blipFill>
          <a:blip r:embed="rId1"/>
          <a:stretch/>
        </p:blipFill>
        <p:spPr>
          <a:xfrm>
            <a:off x="304920" y="2819520"/>
            <a:ext cx="1504800" cy="351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C900232113[1]"/>
          <p:cNvPicPr/>
          <p:nvPr/>
        </p:nvPicPr>
        <p:blipFill>
          <a:blip r:embed="rId2"/>
          <a:stretch/>
        </p:blipFill>
        <p:spPr>
          <a:xfrm>
            <a:off x="1981080" y="3962520"/>
            <a:ext cx="1936800" cy="245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MC900156659[1]"/>
          <p:cNvPicPr/>
          <p:nvPr/>
        </p:nvPicPr>
        <p:blipFill>
          <a:blip r:embed="rId3"/>
          <a:stretch/>
        </p:blipFill>
        <p:spPr>
          <a:xfrm>
            <a:off x="3962520" y="2514600"/>
            <a:ext cx="2257200" cy="2316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MC900040402[1]"/>
          <p:cNvPicPr/>
          <p:nvPr/>
        </p:nvPicPr>
        <p:blipFill>
          <a:blip r:embed="rId4"/>
          <a:stretch/>
        </p:blipFill>
        <p:spPr>
          <a:xfrm>
            <a:off x="6705720" y="22860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MM900283942[1]"/>
          <p:cNvPicPr/>
          <p:nvPr/>
        </p:nvPicPr>
        <p:blipFill>
          <a:blip r:embed="rId5"/>
          <a:stretch/>
        </p:blipFill>
        <p:spPr>
          <a:xfrm>
            <a:off x="5562720" y="4648320"/>
            <a:ext cx="15192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Double Bubble is going to make the biggest 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MC900264288[1]"/>
          <p:cNvPicPr/>
          <p:nvPr/>
        </p:nvPicPr>
        <p:blipFill>
          <a:blip r:embed="rId1"/>
          <a:stretch/>
        </p:blipFill>
        <p:spPr>
          <a:xfrm>
            <a:off x="2514600" y="3657600"/>
            <a:ext cx="35053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Y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icy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bba B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Bub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rd s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C900447262[1]"/>
          <p:cNvPicPr/>
          <p:nvPr/>
        </p:nvPicPr>
        <p:blipFill>
          <a:blip r:embed="rId1"/>
          <a:stretch/>
        </p:blipFill>
        <p:spPr>
          <a:xfrm>
            <a:off x="4800600" y="2209680"/>
            <a:ext cx="38354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4 people of each gender who think they are good at blowing bubbl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Bubble Yum, Hubba Bubba, Juicy Fruit and Double Bubble and have each person blow the different types of gum at different ti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each participant blow 3 bubbles of each kind of bubble g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how large each diameter of each bubble is in c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1496880"/>
                <a:gridCol w="1873440"/>
                <a:gridCol w="1496880"/>
                <a:gridCol w="1498680"/>
                <a:gridCol w="18637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ryn Gilles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llas Rh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5241960"/>
        </p:xfrm>
        <a:graphic>
          <a:graphicData uri="http://schemas.openxmlformats.org/drawingml/2006/table">
            <a:tbl>
              <a:tblPr/>
              <a:tblGrid>
                <a:gridCol w="1566720"/>
                <a:gridCol w="1960560"/>
                <a:gridCol w="1567080"/>
                <a:gridCol w="1568520"/>
                <a:gridCol w="15667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ckyn F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yde Sundhe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ndrah Pay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600200"/>
          <a:ext cx="8839080" cy="2971800"/>
        </p:xfrm>
        <a:graphic>
          <a:graphicData uri="http://schemas.openxmlformats.org/drawingml/2006/table">
            <a:tbl>
              <a:tblPr/>
              <a:tblGrid>
                <a:gridCol w="1609560"/>
                <a:gridCol w="2006640"/>
                <a:gridCol w="1606680"/>
                <a:gridCol w="1611360"/>
                <a:gridCol w="2004840"/>
              </a:tblGrid>
              <a:tr h="116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ylan Bar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981080" y="4952880"/>
          <a:ext cx="5181840" cy="178272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</a:tblGrid>
              <a:tr h="74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icy 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1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cm av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Box 1"/>
          <p:cNvSpPr/>
          <p:nvPr/>
        </p:nvSpPr>
        <p:spPr>
          <a:xfrm>
            <a:off x="-11160" y="5310360"/>
            <a:ext cx="19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all averag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9:55:01Z</dcterms:created>
  <dc:creator>USD376</dc:creator>
  <dc:description/>
  <dc:language>en-US</dc:language>
  <cp:lastModifiedBy>CURRENT USER</cp:lastModifiedBy>
  <dcterms:modified xsi:type="dcterms:W3CDTF">2011-02-24T04:33:34Z</dcterms:modified>
  <cp:revision>14</cp:revision>
  <dc:subject/>
  <dc:title>Blow a Bigger Bubble</dc:title>
</cp:coreProperties>
</file>